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DD96E-6DC6-4643-8C88-723E763D2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DCFDA-4421-4C80-9896-1DF7FAA2D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66CA2-D09D-49F1-ABAC-BB02F5976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12236-B5D8-4C36-8A78-9E97D1271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1134CB-C979-4192-88E0-4AF424331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E9603-A1EC-406C-A00D-90188FF37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1F455-34D2-4AAA-9F4E-091FB7671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E18D7-6D35-40B4-A1CC-8E62DB56C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EE917-C111-4146-94B7-12B97D366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7572D-11BB-44D2-8790-ABA88AAA7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24B79-738A-4AAB-81F5-D0198EC82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3EA97-955D-4193-8F93-9E8668C61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AE947-E147-4007-A70F-717F83275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EFF64-369D-41FB-8288-589157576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5F4B1-BAB3-4F2D-9B9F-44F2F4535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F41732-E846-45A6-86A2-550396555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7D3E69-B6FF-4224-8BFB-0FC4F6C28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90F5A9-FE16-4E7E-A676-AB0E1162BE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C6B59A-BFC5-49E1-8A06-EC13BEFFD4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95D45E-394D-4E73-BB47-C75EBD9908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CC3FAB-B9F5-4114-84C4-336DE8B51B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99238B-FE4D-4970-B458-7A06B82849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75C6B-B63C-4489-90A1-877B403C9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0F462E-2A0D-40EF-8465-0CCC536014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5B946-B4E6-42CA-9CB6-65F6749748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F50E88-1CCE-4701-932E-12AF68E687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5ABB93-339A-4A28-A22D-A940A86F42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7A44D9-2474-4F7E-B9CC-F9DDC1C6B5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C97594-DF54-4D3E-8DCA-ECFAA65424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B87991-EBBF-4B82-83AB-00DE82CF82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3B03B-19EB-480F-8605-8D0DB4B84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2AC50-E9A4-4C09-AF49-2234DDCA4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9538D-E476-45FD-B1D3-DF2E65301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BA13E-0162-4EB5-AE4A-EFD95CD5F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D7229-325C-4283-B2C7-9AE0D50D4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D9F22-F8E6-4375-A629-DC9310DC8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4B439-6866-47BE-91DC-7DE9D6AC92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1" name=""/>
          <p:cNvGrpSpPr/>
          <p:nvPr/>
        </p:nvGrpSpPr>
        <p:grpSpPr>
          <a:xfrm>
            <a:off x="0" y="0"/>
            <a:ext cx="8686800" cy="4876920"/>
            <a:chOff x="0" y="0"/>
            <a:chExt cx="8686800" cy="4876920"/>
          </a:xfrm>
        </p:grpSpPr>
        <p:sp>
          <p:nvSpPr>
            <p:cNvPr id="42"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380880" y="1417680"/>
              <a:ext cx="8305920" cy="182520"/>
              <a:chOff x="380880" y="1417680"/>
              <a:chExt cx="8305920" cy="182520"/>
            </a:xfrm>
          </p:grpSpPr>
          <p:sp>
            <p:nvSpPr>
              <p:cNvPr id="44"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 name="PlaceHolder 3"/>
          <p:cNvSpPr>
            <a:spLocks noGrp="1"/>
          </p:cNvSpPr>
          <p:nvPr>
            <p:ph type="dt" idx="4"/>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9" name="PlaceHolder 4"/>
          <p:cNvSpPr>
            <a:spLocks noGrp="1"/>
          </p:cNvSpPr>
          <p:nvPr>
            <p:ph type="ftr" idx="5"/>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07E5-D2EB-4868-9BB5-9CB75B786B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 name=""/>
          <p:cNvGrpSpPr/>
          <p:nvPr/>
        </p:nvGrpSpPr>
        <p:grpSpPr>
          <a:xfrm>
            <a:off x="0" y="0"/>
            <a:ext cx="8763120" cy="5943600"/>
            <a:chOff x="0" y="0"/>
            <a:chExt cx="8763120" cy="5943600"/>
          </a:xfrm>
        </p:grpSpPr>
        <p:sp>
          <p:nvSpPr>
            <p:cNvPr id="89"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
            <p:cNvGrpSpPr/>
            <p:nvPr/>
          </p:nvGrpSpPr>
          <p:grpSpPr>
            <a:xfrm>
              <a:off x="0" y="3505320"/>
              <a:ext cx="8763120" cy="2438280"/>
              <a:chOff x="0" y="3505320"/>
              <a:chExt cx="8763120" cy="2438280"/>
            </a:xfrm>
          </p:grpSpPr>
          <p:sp>
            <p:nvSpPr>
              <p:cNvPr id="91"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635040" y="533520"/>
              <a:ext cx="8077320" cy="304560"/>
              <a:chOff x="635040" y="533520"/>
              <a:chExt cx="8077320" cy="304560"/>
            </a:xfrm>
          </p:grpSpPr>
          <p:sp>
            <p:nvSpPr>
              <p:cNvPr id="95"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98" name="PlaceHolder 2"/>
          <p:cNvSpPr>
            <a:spLocks noGrp="1"/>
          </p:cNvSpPr>
          <p:nvPr>
            <p:ph type="dt" idx="7"/>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99" name="PlaceHolder 3"/>
          <p:cNvSpPr>
            <a:spLocks noGrp="1"/>
          </p:cNvSpPr>
          <p:nvPr>
            <p:ph type="ftr" idx="8"/>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00" name="PlaceHolder 4"/>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0A96-57C1-4CBC-8918-8C63B039E6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4d4d4d"/>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990720" y="609480"/>
            <a:ext cx="7391160" cy="586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0099cc"/>
                </a:solidFill>
                <a:latin typeface="comic"/>
              </a:rPr>
              <a:t>Ajanta and ellora caves</a:t>
            </a:r>
            <a:endParaRPr b="0" lang="en-US" sz="4600" spc="-1" strike="noStrike">
              <a:solidFill>
                <a:srgbClr val="330033"/>
              </a:solidFill>
              <a:latin typeface="Times New Roman"/>
            </a:endParaRPr>
          </a:p>
        </p:txBody>
      </p:sp>
      <p:sp>
        <p:nvSpPr>
          <p:cNvPr id="141" name="PlaceHolder 2"/>
          <p:cNvSpPr>
            <a:spLocks noGrp="1"/>
          </p:cNvSpPr>
          <p:nvPr>
            <p:ph/>
          </p:nvPr>
        </p:nvSpPr>
        <p:spPr>
          <a:xfrm>
            <a:off x="0" y="15238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onishingly carved into hillside rock in the middle of nowhere are the Ajanta and Ellora caves. There are 34 caves at Ellora dating from between the 6th and 11th centuries AD, and 29 caves at Ajanta dating back to between the 2nd century BC and 6th century AD. While the Ajanta caves are rich in paintings and sculpture, the Ellora caves are renowned for their extraordinary architecture. The most incredible thing about these caves is that they were crafted by hand, with only a hammer and chisel. </a:t>
            </a:r>
            <a:endParaRPr b="0" lang="en-US" sz="2000" spc="-1" strike="noStrike">
              <a:solidFill>
                <a:srgbClr val="000000"/>
              </a:solidFill>
              <a:latin typeface="Arial"/>
            </a:endParaRPr>
          </a:p>
        </p:txBody>
      </p:sp>
      <p:pic>
        <p:nvPicPr>
          <p:cNvPr id="142" name="" descr=""/>
          <p:cNvPicPr/>
          <p:nvPr/>
        </p:nvPicPr>
        <p:blipFill>
          <a:blip r:embed="rId1"/>
          <a:stretch/>
        </p:blipFill>
        <p:spPr>
          <a:xfrm>
            <a:off x="4038480" y="3581280"/>
            <a:ext cx="342900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07:33:56Z</dcterms:created>
  <dc:creator>pc</dc:creator>
  <dc:description/>
  <dc:language>en-US</dc:language>
  <cp:lastModifiedBy>pc</cp:lastModifiedBy>
  <dcterms:modified xsi:type="dcterms:W3CDTF">2010-03-26T08:27:40Z</dcterms:modified>
  <cp:revision>2</cp:revision>
  <dc:subject/>
  <dc:title>Slide 1</dc:title>
</cp:coreProperties>
</file>